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F7A-83C0-483E-AF8E-FAAEFD4D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B02-81AF-4774-983C-4D9CF38D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F58-0BC2-46FD-9FC3-F83EE2A4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340E-AE81-437A-A950-79328100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9D75-4BE8-4491-B5A8-1088EF29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6B89-5942-4E0D-B925-D149D12E7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94F7-503D-4F88-A6D5-86926D5E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9802-4904-4CDE-9FE2-AEA6BAE0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2470-7AF3-4596-AFEC-46418A0D3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E36F-CF8E-404E-85EC-B5B02E1F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95AFE-A4B3-4D89-A8B0-E2E4619C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BB54-B34A-41CA-A734-A715A2057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3E4A-EADA-4387-8217-A996BBF6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762F-4E43-4AFE-BEA7-18C43762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981A-1C1B-4A67-92CE-B5995FA6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E51B-68A3-42CF-9225-6D973FFF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B8DC-FB9F-4DFC-8CAB-C6E0F825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51A3A-D80E-405F-8F37-B3A290DEA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EB9D-BDCA-4E73-866C-708504399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A85E8-1299-4447-B0D3-5D99E4DD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D8BF4-CD6C-4267-95BE-A8F9BA1E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3846A-9EE6-43F7-A7C6-35817A8A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FA8-D82D-495A-A93E-BF668779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25B58-2D9C-4363-B06D-95983DD2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75B23-9D21-4E44-9920-683BC570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D62E-D8F9-4F73-BB21-6ECC1682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5F5C2-C735-4A7A-A549-C2FBABD7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DB0E3-8B0D-42B9-A1D4-D5B55428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FE141-3870-4DB5-B9D3-9221E278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0F77F-7DF3-4B52-B6CB-AFA2D2B2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DBA9C-9848-43BD-A48F-2E97C518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D529-55D9-4826-989F-F05EA3D9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7A9A7-99E0-4DDC-ABA7-FC73FFD7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BBA-70A8-4CF7-A923-1F6F075C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A4D94-0C50-4986-B323-A82F1BBD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3B261-008C-415D-BC92-457BA2DA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E52BE-0539-4A9E-9074-FFF6E82B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2331-BD26-4D07-A901-BD04444B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70CF1-527E-485D-B8F4-275E6359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3922B-9929-421A-9A58-DF1F0C09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CFD79-0396-43DF-B7BF-80594D65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50F54-6CD5-4EA0-84C8-CC84F9F20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EF8DF-E7BF-4403-A627-304A38C0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999F3-B062-4103-A99E-AC05570D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A3F-8971-48F3-8215-3925D768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E1E3-E37B-4C94-A6F5-D7F9E21E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718B9-2F75-446C-81E3-1CF6296B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1CF1F-D8CD-44C4-9A7D-1D65E899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7BF3A-186B-4C74-999D-62F3089F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76ED8-B973-44FB-9628-733BF1C8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C43AC-6D56-4B5B-BD93-9F0C1A8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195DD-0387-406B-AF2B-4C7D84D1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AC536-0900-4240-B06C-090072D1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69220-A175-438B-8D6F-1FE08D9E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FB701-4688-47F5-8E4C-741E47C18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1F8-32D8-4737-812B-F57CDA85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6B985-DD12-4A95-B260-28FBACC1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53A37-1CD8-4543-98E2-9BD5D23D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1CB4D-6F4B-4A8E-92DC-A709FC02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8ED22-C92A-4222-952B-12EE24DA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73ED9-3986-4976-A542-5E2B4BC2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27913C-4415-429F-906C-A60A349F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ED3E7-0ADD-4F45-B5CF-9AD17DEB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E42B9-4100-4DAF-A6B8-F7DEE51A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524BA-66F7-40FA-BEFE-68A7F168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D3EA8-9783-4250-B4C6-0A508D11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0D6A-CBE0-47AE-85F5-F6CD1340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48B6F-7BAB-4B93-A81E-F3A83EAD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CEC1E-F970-43D0-A9ED-997FBA76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73030-BFFD-4CC1-917A-7FDE5582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A2815-B00F-4B76-8DA1-5E385A7C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097CB-5FC0-426C-AE33-438F04DC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60AE4-AD34-4B38-94C5-28E473EF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087D9-3397-47AC-B7E0-ED882757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CCF8-DA58-4D6A-8F8B-24F76318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F97BE-8C3A-4DE3-BEBA-D97D6550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E60F5B-B36D-49A5-B152-6BABDE5D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9DC2-8DDA-49AD-9987-01B17521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CB456-9140-44DC-93D8-15D6DDEC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7683F-37DC-4544-9324-B901FC10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38C7C-A12D-4D5E-A9C0-51D13052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669EE-EE65-44D3-9085-DBE68549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5E5AF-3D8C-4088-85A9-E6F20415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35F-E958-4CFA-877B-B505658B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C7DAA5-D5CD-4D04-9437-8E9BA0B450F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B8ED10-932A-488C-BF3C-6E43AAE68C88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3B9FC-D054-4693-ADE4-4EE6C633078A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B2C7F-474C-4CC3-AC49-26AAADF33488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83D5AF-D715-4FD6-8E53-8710FE240445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9FDDC-662B-4ACA-B2E5-539EFA75A69E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FE4093-9848-47FF-8477-E6F6A6BB81DE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B9B72C-7710-4403-A5F5-C9F02032BDF8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EF176-A7BB-43B7-94CD-2616823F2233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CDD47-F996-4436-96EF-56DDC096C9F1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1DAA7-0479-4358-8E07-A98C345445E9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1EBD3-D4F0-49D1-A827-92D35402213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4381D-6AFA-4DB7-828D-27E22BF6BF02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C852AF-4702-453E-9BF1-4A2B565FE8B0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942480"/>
            <a:ext cx="754380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262626"/>
                </a:solidFill>
                <a:latin typeface="Calibri Light"/>
              </a:rPr>
              <a:t>CASE DISCUSSION 3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5438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DR. KONG WEI YE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PUSAT PERUBATAN UNIVERSITI KEBANGSAAN MALAYSIA, KUALA LUMPUR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DR. ILIZA IDRI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200" spc="-1" strike="noStrike">
                <a:solidFill>
                  <a:srgbClr val="344068"/>
                </a:solidFill>
                <a:latin typeface="Calibri Light"/>
              </a:rPr>
              <a:t>KLINIK KESIHATAN AMPANGAN, NEGERI SEMBILA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07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D2F90-A950-4B6E-AC98-A5FA4C9A37F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21880" y="170028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 60-year-old female is being followed up by Klinik Kesihatan for her long standing diabetes mellitus &amp; hypertension (HbA1C 9.0%, BP 160/90)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he is on perindopril 4 mg ON, amlodipine 10mg OD, metformin 1000 mg BD, gliclazide 160 mg BD &amp; simvastatin 40mg 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er trend of serum creatinine &amp; proteinuria is as follow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D72889-5751-470E-B90A-E23E6F36CA4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971640" y="4581360"/>
          <a:ext cx="7254720" cy="2013120"/>
        </p:xfrm>
        <a:graphic>
          <a:graphicData uri="http://schemas.openxmlformats.org/drawingml/2006/table">
            <a:tbl>
              <a:tblPr/>
              <a:tblGrid>
                <a:gridCol w="1450800"/>
                <a:gridCol w="1451160"/>
                <a:gridCol w="1450800"/>
                <a:gridCol w="1451160"/>
                <a:gridCol w="14508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um creatin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 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hour urine 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Would you refer her to a nephrologis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404040"/>
                </a:solidFill>
                <a:latin typeface="Calibri"/>
              </a:rPr>
              <a:t>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62FC2-3A66-436F-A489-C0042C03A5D7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2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21880" y="1700280"/>
            <a:ext cx="754380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in doubt, refer!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 few red flags in this case (instead of a usual case of CKD/DKD progression):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um Cr is increasing or eGFR is decreasing more than the expected range (expected decline of eGFR </a:t>
            </a: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&lt;2 ml/min/1.73 m</a:t>
            </a:r>
            <a:r>
              <a:rPr b="0" lang="en-MY" sz="2200" spc="-1" strike="noStrike" baseline="30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per year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200" spc="-1" strike="noStrike">
                <a:solidFill>
                  <a:srgbClr val="000000"/>
                </a:solidFill>
                <a:latin typeface="Calibri"/>
              </a:rPr>
              <a:t>Is there a second renal pathology besides DKD? (i.e. Does the patient needs a renal biopsy?)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pinions about medication dosing/safety in progressing renal failur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o stop ACEi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to stop metformin, etc.?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4AD15B-6B9D-490A-BA24-9DB6D0A840F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2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22240" y="1700280"/>
            <a:ext cx="7926480" cy="4681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Timing of referral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“hard &amp; fast” rul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.g. A DM patient with creatinine of 150 but proteinuria 4 g/ 24 hour needs earlier referral than an NSAIDs nephropathy patient with creatinine of 200 but proteinuria 1 g/24 hour &amp; already stopped taking NSAID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phrologist need to provide feedback to the referring doctors (memo, calls if necessary, writing on patient’s notebook etc.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E.g. when to stop metformin, etc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else can the primary care doctor help to monitor/ manage?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E88E27-4375-490E-A609-D76A66AE02B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821880" y="1846440"/>
            <a:ext cx="75438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68-year-old male is being followed up by Klinik Kesihatan for his stable CKD. His baseline serum creatinine is around 150 μmol/L for the past 2 year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 is now complaining of urinary hesitancy, weak stream while urinating &amp; sense of incomplete bladder emptying, which have worsened over the past 1 month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serum creatinine is now markedly elevated at 850 μmol/L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068901-0D46-4262-BDAC-C35EE98F8ED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do you think has caused his severe acute on chronic renal fail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ould you refer him to a nephrologist? Why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23A8B-893E-46D4-A194-C6BB82D2699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ed to consider obstructive uropathy if patient’s history is suggestive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 index of suspic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ed to consider in patients with unexplained AKI (or AKI on CKD), history of gross haematuria/renal stones/renal colic/pelvic tumour/radiation therapy, etc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F00ECC-186F-4000-85BC-352ED2F612A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287280"/>
            <a:ext cx="7926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be considered a medical emergency &amp;  referred immediately to urology service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Or concurrent referral to both urology &amp; nephrology servic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void any unnecessary dela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elay in relieving the obstruction will result in permanent renal damag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8E288-7B3A-4480-8E62-DB6081C1C42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262626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3A46CC-7811-4355-93E6-A113C1CB837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 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KD has emerged as a global public health problem because of the increasing number of patients with CKD, risk of progression to ESRD, &amp; high morbidity &amp; mortality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CKD patients are seen in the primary care clinics during the early stages of their CKD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E90EAA-E830-4D1B-B720-82A620D95A3A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21880" y="1846080"/>
            <a:ext cx="7543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important to identify which patients need to be referred for nephrology servic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iming of referral differs according to the suspected diagnosis of the kidney problem &amp; its expected progressio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wo way communication between primary care doctors &amp; nephrologists is paramount in ensuring the best care for the patient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19996-DBF6-4147-830D-E0B8EDDB27C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Introduction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3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39640" y="1846080"/>
            <a:ext cx="814248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studies have demonstrated that early referral of patients with more serious CKD to  nephrology care is associated with: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6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rates of kidney failure declin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d need for &amp;/or duration of hospitalis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d likelihood of permanent dialysis access created prior to dialysis onse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creased patient morbidity &amp; mortalit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higher Hb levels, etc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480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100000"/>
              </a:lnSpc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MY" sz="1400" spc="-1" strike="noStrike">
                <a:solidFill>
                  <a:srgbClr val="000000"/>
                </a:solidFill>
                <a:latin typeface="Calibri"/>
              </a:rPr>
              <a:t>63. Kidney Health Australia. When to refer for specialist renal care. Melbourne: Kidney Health Australia; 2012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727808-3747-41F7-9F68-08DEC7AE4C6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 56-year-old male, who has been well-managed at Klinik Kesihatan for his diabetes mellitus &amp; hypertension, is noted to have an increasing trend of serum creatinine over the past 2 month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latest HbA1C is 6.8%, blood pressure 136/82, 24-hour urinary protein is 0.4 grams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creatinine trend is as follow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4032F4-429F-4BBA-B45E-7E8EB2D34C6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332000" y="5013360"/>
          <a:ext cx="6553080" cy="15415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/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719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 </a:t>
                      </a: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μ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  <a:tr h="411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F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2ef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1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Upon review at the nephrology clinic, he admits to have taken naproxen 1 tab BD-TDS  for the past 2 weeks for his lower back pain, as well as consuming Shxxxxe supplement to “cleanse his blood” for the past 3 month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8ACBF-E7B7-49F0-A2F8-DE649BD97DE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s this AKI or progression of CKD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causes i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nvestigations would you do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9DF17-B5D5-41A9-9DF6-D9DF78ECC09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853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Need to differentiate AKI vs progression of CKD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gression of CKD will usually show a slow but steady trend of progression rather than a steep decline of renal fun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f AKI likely, might need to start investigations: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nal US, other relevant blood/urine tests, review medication list, med-med interaction, OTC medications (particularly NSAIDs), traditional meds &amp; supplements etc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B35F6-16E7-459D-AAD8-29583AA9628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287280"/>
            <a:ext cx="784872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 (Points for discussions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Call the nephrologist directly to refer case (if very severe or rapidly progressing AKI) instead of writing referral letter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oid any unnecessary dela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505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ght “miss the boat” due to logistical delay if we’re dealing with truly emergent AKI (e.g. RPGN etc.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DB7FC0-1E34-4A4E-94D4-DAE42514858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1-15T04:04:17Z</dcterms:modified>
  <cp:revision>127</cp:revision>
  <dc:subject/>
  <dc:title>SCREENING &amp; DIAGNOSIS</dc:title>
</cp:coreProperties>
</file>